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FD2-C85A-47B4-AC36-0FA39FFA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95C-1C55-49FA-B60A-A6A8C17D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FEC-ADA5-4F94-BF95-9EE3BFDC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4E9-8FDB-49F2-BF61-5CC3C83B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94C2-EB0A-49DE-90B7-B3AB00F7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37E-A3BB-42B4-9986-4FBE3B5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4391-8983-429B-ABE3-F79A2CA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F30B-C40A-4B3A-A22F-AA5DCFA0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91F-4B61-495B-9E63-91C7913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7FC-CC02-426C-8CF6-DB25EA0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06D-60D0-497D-A64B-42848D3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EE-6436-441C-9176-8A9FFFD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768-A567-4293-B319-34FC0FD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28F-90AE-454E-B6EF-CB12AA1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ACA-446B-4E7D-B530-B5CC7A3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FB2-603D-436F-A402-AAAEB733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7E75-4C9D-4430-989C-71CD2AE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2BC-5FDF-4FF8-8F67-E7F21E06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58A-2AB0-448D-9200-773EE07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26D-D3FD-4230-BE73-9435233C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CAD-F661-4757-9823-9D363C87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B42-1462-4888-AB7A-131A389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4E6-666E-426D-A23D-AED4AEC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8BC-96DA-4681-808E-0F87882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F56D-7A07-41B3-828E-D90C4C075B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C7E-03EF-41ED-88CE-02287387C4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img2.timeinc.net/toh/i/g/0107_islands/kitchen-islands-10.jpg&amp;imgrefurl=http://www.thisoldhouse.com/toh/photos/0,,1581515_1284283,00.html&amp;usg=__lY4uFZLsTWB7DNV0ZXrOtL_W4SY=&amp;h=450&amp;w=450&amp;sz=35&amp;hl=en&amp;start=46&amp;tbnid=RiiMvgR28Hs_mM:&amp;tbnh=127&amp;tbnw=127&amp;prev=/images%3Fq%3Disland%2Bkitchens%26gbv%3D2%26ndsp%3D20%26hl%3Den%26safe%3Dactive%26sa%3DN%26start%3D40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oodideas.front.lv/wp-content/uploads/2007/08/kitchen_island_design_sample.jpg&amp;imgrefurl=http://www.kitchencustomdesign.com/kitchen-design-pictures/&amp;usg=__ZX3WC7Ac2CEmqPFZbBnWq-Rlps0=&amp;h=566&amp;w=800&amp;sz=72&amp;hl=en&amp;start=57&amp;tbnid=1MjE-DKpdBJXiM:&amp;tbnh=101&amp;tbnw=143&amp;prev=/images%3Fq%3Disland%2Bkitchens%26gbv%3D2%26ndsp%3D20%26hl%3Den%26safe%3Dactive%26sa%3DN%26start%3D40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lutionpeoplephilly.com/images/peninsulakitchen1.gif&amp;imgrefurl=http://solutionpeoplephilly.com/Kitchen_Design_Planning.html&amp;usg=__hkBzpn0YGEn2XU0RI76muOVDL8s=&amp;h=356&amp;w=300&amp;sz=12&amp;hl=en&amp;start=1&amp;tbnid=79uqJdpsMeyvfM:&amp;tbnh=121&amp;tbnw=102&amp;prev=/images%3Fq%3Dkitchens%2Bwith%2Bpeninsula%26gbv%3D2%26hl%3Den%26safe%3Dactiv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thekitchendesigner.org/storage/jl-kitchen-tour.jpg&amp;imgrefurl=http://www.thekitchendesigner.org/journal/2007/3/22/kitchens-heard-around-the-blogs.html&amp;usg=__WvVtFosasEENSQSt69yirj5wSKY=&amp;h=378&amp;w=550&amp;sz=113&amp;hl=en&amp;start=36&amp;tbnid=880jfXgGzZRkIM:&amp;tbnh=91&amp;tbnw=133&amp;prev=/images%3Fq%3Dkitchens%2Bwith%2Bpeninsula%26gbv%3D2%26ndsp%3D20%26hl%3Den%26safe%3Dactive%26sa%3DN%26start%3D2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.bp.blogspot.com/_wFWqWIH-WFU/R5kZbcoFslI/AAAAAAAADkA/E-rZB7UYXBw/s320/kitchen-sinks-01.jpg&amp;imgrefurl=http://housingpanic.blogspot.com/2008_01_01_archive.html&amp;usg=__8C8eFbkWoyHT_1aehelNnX3p9pg=&amp;h=300&amp;w=300&amp;sz=20&amp;hl=en&amp;start=2&amp;tbnid=KiAF9nMb4eq8JM:&amp;tbnh=116&amp;tbnw=116&amp;prev=/images%3Fq%3Dkitchen%2Bsinks%26gbv%3D2%26hl%3Den%26safe%3Dactiv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www.frankeksd.com/grfx/products/mainproduct/MHK-110-28.jpg&amp;imgrefurl=http://www.frankekitchensinks.com/&amp;usg=__NZLj50xLgAw8XcZYPD1Uji0LwPc=&amp;h=299&amp;w=299&amp;sz=27&amp;hl=en&amp;start=14&amp;tbnid=1QZvajk543VhIM:&amp;tbnh=116&amp;tbnw=116&amp;prev=/images%3Fq%3Dkitchen%2Bsinks%26gbv%3D2%26hl%3Den%26safe%3Dactive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images.meredith.com/bhg/images/2007/06/ss_Sterlingundercounter.jpg&amp;imgrefurl=http://www.bhg.com/home-improvement/kitchen/product-guide/kitchen-sinks/&amp;usg=__c6BYtNtomyOryVmp0rd5jvDcQt4=&amp;h=400&amp;w=300&amp;sz=36&amp;hl=en&amp;start=18&amp;tbnid=Er_4vfwXDcEa1M:&amp;tbnh=124&amp;tbnw=93&amp;prev=/images%3Fq%3Dkitchen%2Bsinks%26gbv%3D2%26hl%3Den%26safe%3Dactive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heating-engineers-manchester.co.uk/images/kitchen%2520sinks.jpg&amp;imgrefurl=http://heating-engineers-manchester.co.uk/kitchen_sink.aspx&amp;usg=__FUWvIG_EueTtg--Finjny_f6mxw=&amp;h=400&amp;w=400&amp;sz=11&amp;hl=en&amp;start=26&amp;tbnid=ASICL6h758JNtM:&amp;tbnh=124&amp;tbnw=124&amp;prev=/images%3Fq%3Dkitchen%2Bsinks%26gbv%3D2%26ndsp%3D20%26hl%3Den%26safe%3Dactive%26sa%3DN%26start%3D20" TargetMode="External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hopping.com/xPO-Whirlpool_Whirlpool_GC3SHEXNS_23_Cu_Ft_Free_Standing_Counter_Refrigerator_w_Electronic_Ice_Water_Dispens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shopping.com/xPO-LG_LG_25_Cu_Ft_French_Door_Refrigerator_LRFC25750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shopping.com/xPO-Amana_15_0_cu_ft_Top_Freezer_Refrigerator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180052-2251-FCCG201FW&amp;lpage=none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240505-666-EV181NZRQ&amp;lpage=none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lowes.com/lowes/lkn?action=productDetail&amp;productId=240506-666-EV250NXRQ&amp;lpage=none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225572-83-JB710SKSS&amp;lpage=none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lowes.com/lowes/lkn?action=productDetail&amp;productId=245104-83-JGB908SELSS&amp;lpage=none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owes.com/" TargetMode="External"/><Relationship Id="rId2" Type="http://schemas.openxmlformats.org/officeDocument/2006/relationships/hyperlink" Target="http://www.homedepot.com/" TargetMode="External"/><Relationship Id="rId3" Type="http://schemas.openxmlformats.org/officeDocument/2006/relationships/hyperlink" Target="http://www.whirlpool.com/" TargetMode="External"/><Relationship Id="rId4" Type="http://schemas.openxmlformats.org/officeDocument/2006/relationships/hyperlink" Target="http://www.kitchens.com/" TargetMode="External"/><Relationship Id="rId5" Type="http://schemas.openxmlformats.org/officeDocument/2006/relationships/hyperlink" Target="http://www.nkba.com/" TargetMode="External"/><Relationship Id="rId6" Type="http://schemas.openxmlformats.org/officeDocument/2006/relationships/hyperlink" Target="http://www.sears.com/" TargetMode="External"/><Relationship Id="rId7" Type="http://schemas.openxmlformats.org/officeDocument/2006/relationships/hyperlink" Target="http://www.geappliances.com/" TargetMode="External"/><Relationship Id="rId8" Type="http://schemas.openxmlformats.org/officeDocument/2006/relationships/hyperlink" Target="http://www.energystar.gov/" TargetMode="External"/><Relationship Id="rId9" Type="http://schemas.openxmlformats.org/officeDocument/2006/relationships/hyperlink" Target="http://www.hgtv.com/" TargetMode="External"/><Relationship Id="rId10" Type="http://schemas.openxmlformats.org/officeDocument/2006/relationships/hyperlink" Target="http://www.bhg.com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7.01 Apply the Elements of a Functional Kitch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Types of Kitche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Island/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reestanding storage and countertop unit in a kitch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y contain a second sink or a cook 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952720" cy="19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4800600"/>
            <a:ext cx="2362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Peninsu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kitchen countertop that is attached at one end to a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cabinets beneath counter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serve as an open divider between the kitchen &amp; a dining room or family 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438280"/>
            <a:ext cx="180684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5105520"/>
            <a:ext cx="2105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kitchen peninsula - design-60_t"/>
          <p:cNvPicPr/>
          <p:nvPr/>
        </p:nvPicPr>
        <p:blipFill>
          <a:blip r:embed="rId1"/>
          <a:stretch/>
        </p:blipFill>
        <p:spPr>
          <a:xfrm>
            <a:off x="7010280" y="304920"/>
            <a:ext cx="182880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Ultra-Stylish, Ultra-Functional Kitchen Islands"/>
          <p:cNvPicPr/>
          <p:nvPr/>
        </p:nvPicPr>
        <p:blipFill>
          <a:blip r:embed="rId2"/>
          <a:stretch/>
        </p:blipFill>
        <p:spPr>
          <a:xfrm>
            <a:off x="5715000" y="2438280"/>
            <a:ext cx="285768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4879800"/>
            <a:ext cx="2514600" cy="197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Galley Style Kitchen Remodeling"/>
          <p:cNvPicPr/>
          <p:nvPr/>
        </p:nvPicPr>
        <p:blipFill>
          <a:blip r:embed="rId4"/>
          <a:stretch/>
        </p:blipFill>
        <p:spPr>
          <a:xfrm>
            <a:off x="6172200" y="502920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 Shaped Kitchen Design Renovation"/>
          <p:cNvPicPr/>
          <p:nvPr/>
        </p:nvPicPr>
        <p:blipFill>
          <a:blip r:embed="rId5"/>
          <a:stretch/>
        </p:blipFill>
        <p:spPr>
          <a:xfrm>
            <a:off x="914400" y="228600"/>
            <a:ext cx="2828880" cy="212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mall Kitchen Design"/>
          <p:cNvPicPr/>
          <p:nvPr/>
        </p:nvPicPr>
        <p:blipFill>
          <a:blip r:embed="rId6"/>
          <a:stretch/>
        </p:blipFill>
        <p:spPr>
          <a:xfrm>
            <a:off x="3581280" y="4495680"/>
            <a:ext cx="1955880" cy="204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One-walled kitchen"/>
          <p:cNvPicPr/>
          <p:nvPr/>
        </p:nvPicPr>
        <p:blipFill>
          <a:blip r:embed="rId7"/>
          <a:stretch/>
        </p:blipFill>
        <p:spPr>
          <a:xfrm>
            <a:off x="1447920" y="2438280"/>
            <a:ext cx="1760400" cy="18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moretuzzo-kitchen-class-x-1.jpg"/>
          <p:cNvPicPr/>
          <p:nvPr/>
        </p:nvPicPr>
        <p:blipFill>
          <a:blip r:embed="rId8"/>
          <a:stretch/>
        </p:blipFill>
        <p:spPr>
          <a:xfrm>
            <a:off x="3962520" y="304920"/>
            <a:ext cx="2390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moretuzzo-kitchen-class-x-1.jpg"/>
          <p:cNvPicPr/>
          <p:nvPr/>
        </p:nvPicPr>
        <p:blipFill>
          <a:blip r:embed="rId1"/>
          <a:stretch/>
        </p:blipFill>
        <p:spPr>
          <a:xfrm>
            <a:off x="2514600" y="2422440"/>
            <a:ext cx="54100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v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01932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581280" cy="25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31525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tchen Sink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yles and colors to suit every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round, square, oval: deep or shal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have single, double, triple bow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de of porcelain, stainless steel, acrylic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819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971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743200"/>
            <a:ext cx="1343160" cy="179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495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5562720" y="46576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rig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depends on number of people in fam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people = 16 cubic feet. Add 1.5 cubic feet for each additional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broken into different compartments separate for fruits, veggies, me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frig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e d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does not have a freezer, only a colder compartment. Will not keep food froz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mpa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suitable for dorms, offices, hotels rooms. Not suitable for frozen foods or ice. Can be rented or purchased cheap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Two d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most common type found in home. Has a separate freezer compartment that remains at about 0. Above, below, bedside d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rigerator Special Featur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ma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cube &amp; water dispenser in d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 defrosting free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able glass shel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ep door compar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in touch screen &amp; bar code scanner for inventory and so go online to order items at local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i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ork Centers for kitchen activities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Food Preparation &amp; Sto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ounter for preparing foo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frigerator and cabinets for storing utensils and foo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ooking &amp; Ser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tovetop and oven for cooking and bak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binets and counter for tools and utensil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lean 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nk and dishwash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binets for storing dishes, tools, and utensil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day kitchens may also have a planning work center with a computer, bookshelves and desk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ov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lo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Whirlpool GC3SHEXN Side by Side Refrigerat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2767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LG LRFC25750 Refrigerator French Doo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2971800"/>
            <a:ext cx="209556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mana ATB1504AR Top Freezer Refrigerato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3200400"/>
            <a:ext cx="17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commended size of the refrigerator depends on the number of people in the househol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ople us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6 cu.f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.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u.ft for each additional pers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: Family of 4…..16 cu.ft. + 1.5 + 1.5= 19 cu.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z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yle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the product and its location in your home. Will an upright or chest freezer work better for you? A 14 cu. ft. upright freezer annually consumes less than half the energy needed to light a 100 watt bulb for the same period of ti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st type freezer: large, bulky packages are easier to store, use LESS energy because less cold air escapes when door is ope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 Take up more floor space and food must be lifte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7692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ight type freezers: food is easier to see and remove, takes up a small amount of floor space. Uses more energ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9625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36576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ic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ventional Coi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electricity flows through wires encased in co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lass ceramic t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smooth top, coils are hidden, easy to clean, scratches eas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alogen cartrid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uses electricity but provides instant heat just like ga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uction Cook t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magnetic field to generate heat in the bottom of cooking pots and pans which must also be magnet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 from the cookware then cooks the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heat is created on the range top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nup is easy because spills do not burn and coils are beneath a glass ceramic t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s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 is produced from the combustion process between gas and oxyg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 is controlled with a valve with electronic igniters (required by la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ventional burn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do not fit snugly into cook-top so spills are difficult to cl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ealed burn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No opening exists between burner and cook-top, easy clean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s of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reestan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ost common and comes in different sizes, colors, and has many different options. Oven is below the cook-top, may stand alone OR between cabin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419112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114800"/>
            <a:ext cx="2819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-in range : either slides into or rest on base cabinets. Usually chrome strips are used to cover the side edges and provide the built in l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-in range: provides cooking surface separate from the oven. Installed on a countertop, usually an island. Oven is installed in a wall, can have microwave installed above/belo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rming Drawer: used to keep hot food warm until serving time. Used to warm plates and serving pie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o make a kitchen efficient as possible you need to place the focus points of major work centers at the corner of imaginary triangle.  Called a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work triangle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 total walking distance between refrigerator, sink &amp; range should not exceed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21 fe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ction oven: bake foods in a stream of heated air, browns and cooks food faster at a lower temper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wave oven: cooks with high-frequency energy waves. Can cook, defrost, &amp; reheat foods. Come in many sizes and wattages, can be countertop or built-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od Waste Dispo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ed below the sink to catch and grind most types of foods. Connected to a sewer line or septic tan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D water is needed to help grind the scraps and flush them through the dr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hwas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hwasher: saves time, energy &amp; water. Uses hotter water &amp; stronger detergents, dries dishes faster, can be built-in or portable, many have special cycles for pots, fine china, food disposer, quiet op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h comp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ss household trash to a fraction of its original volu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sh is placed into heavy duty plastic bags, trash compactors can handle almost any kind of nonfood trash, including bottles, cans &amp; plastic contai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intended for food scraps, flammable materials and aerosol 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55800" y="304920"/>
            <a:ext cx="4799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using and Interiors, pages 496-51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owe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homedepo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whirlpoo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kitchen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ww.nkba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www.sear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www.geappliance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www.energystar.gov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www.hgtv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www.bh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pyright ©2007, ABCD, All rights reserv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Kitchen Work Centers – Work Triang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333520" y="2419200"/>
            <a:ext cx="47023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l work triangle follows the normal flow of food preparation.  You move food from the refrigerator/freezer &amp; take it to the sink for cleaning.  From the sink food goes to range for cook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fter cooking &amp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ating leftover foo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returned 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frigera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278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ne Wall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range, sink, refrigerator and cabinets are arranged along one wall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aves space – usually in apar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ery limited storage&amp; counter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One Wall Kitchen Floor Plan."/>
          <p:cNvPicPr/>
          <p:nvPr/>
        </p:nvPicPr>
        <p:blipFill>
          <a:blip r:embed="rId2"/>
          <a:stretch/>
        </p:blipFill>
        <p:spPr>
          <a:xfrm>
            <a:off x="4648320" y="2919240"/>
            <a:ext cx="43434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orridor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liance and cabinets are arranged along 2 walls, with an aisle between the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ually has a compact efficient work tri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both ends of corridor are open can have interruption from people walking throu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Galley Kitchen Floor Plan."/>
          <p:cNvPicPr/>
          <p:nvPr/>
        </p:nvPicPr>
        <p:blipFill>
          <a:blip r:embed="rId1"/>
          <a:stretch/>
        </p:blipFill>
        <p:spPr>
          <a:xfrm>
            <a:off x="533520" y="2895480"/>
            <a:ext cx="41907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L-Shaped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liances and cabinets are arranged along 2 adjoining walls.  Allows an open area that may be used for dining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re than 1 person can work in kitc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rner storage might not be fully acce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L-Shape Kitchen Floor Plan."/>
          <p:cNvPicPr/>
          <p:nvPr/>
        </p:nvPicPr>
        <p:blipFill>
          <a:blip r:embed="rId1"/>
          <a:stretch/>
        </p:blipFill>
        <p:spPr>
          <a:xfrm>
            <a:off x="838080" y="2330280"/>
            <a:ext cx="37339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U-Shaped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tains appliances and cabinets that are arranged along 3 adjoining wa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desirable because most U-shaped have more continuous counter and cabinet space than other lay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U-Shape Kitchen Floor Plan.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1:46:49Z</dcterms:created>
  <dc:creator> </dc:creator>
  <dc:description/>
  <dc:language>en-US</dc:language>
  <cp:lastModifiedBy>s.brooks</cp:lastModifiedBy>
  <dcterms:modified xsi:type="dcterms:W3CDTF">2009-11-06T17:20:30Z</dcterms:modified>
  <cp:revision>25</cp:revision>
  <dc:subject/>
  <dc:title>Obj 7.01 Apply the Elements of a Functional Kitchen</dc:title>
</cp:coreProperties>
</file>